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95BB-22C7-4A0C-8E04-5F95E5314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B6E-3E32-4D04-BC84-AF5094F0C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655-DA16-4DAE-BB72-F7D8FDAE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2EE-A637-4961-83A3-328A22E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0EF-7D4F-44D5-B486-181CFF1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345-8D54-4EA7-B60F-7DDE5A91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C89-B3FC-4C40-B2AF-7515A374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182-BD51-440A-AE47-FADFC16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A88-282B-4220-B413-9EC1C9E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D37-226B-40A7-B8AA-2E71F3E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E1A-3C8F-4DAB-8E76-FF0CB20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525-9FDF-45A7-8327-77CC5F1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F6D-EDCD-4188-B150-BA990CD0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A8E-9057-4A44-BFD8-5A9B9C4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332-4276-4596-AC15-99E88CA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A49-33EA-44DA-982B-7B26AFE20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eclan, Amanda and 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lling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viet Union fell in 1991. Since then, Russia has been trying to rebuild their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banking system and poor economic growth also contribute to the failing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124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, nickel, coal, petroleum, copper, fish, bauxite, iron ore, lead, tin, and z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…forest contains a lot of timber for the Russians to use for building and other important 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Kaliningrad-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ause of these Port Cities, Russian’s are allowed to get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663248248_8236c31a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aliningrad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 Baltic port in north-wes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 connection to other Russian territ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manufacturing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ce-fr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ladivostok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th-eastern port in Rus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ly ice-free port in mainland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ggest ocean port on Pacific coas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industries are fishing and enginee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1447560"/>
            <a:ext cx="4041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urmansk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n the Kola Penins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orlds largest port located behind polar 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northern non-freezing por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. Petersburg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 sea port at the east end of the gulf of Fin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dustries include: shipbuilding, engineering, electronics and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main city in Russian fe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ne of the most important to servic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During the financial crisis in 1998, Russian tourism f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Lots of cultural sites in Moscow and St. Peters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Too much paper work, expensive prices and lack of local marketing limits what tourists can se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Amanda</cp:lastModifiedBy>
  <dcterms:modified xsi:type="dcterms:W3CDTF">2010-12-18T15:58:30Z</dcterms:modified>
  <cp:revision>26</cp:revision>
  <dc:subject/>
  <dc:title>Russia Economy</dc:title>
</cp:coreProperties>
</file>